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png" ContentType="image/png"/>
  <Override PartName="/ppt/media/image20.jpeg" ContentType="image/jpeg"/>
  <Override PartName="/ppt/media/image29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C8A-D597-4E9C-A8D7-4DB13FB4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9BE-C0F9-49BE-8D92-19A27D68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F90-66AC-4112-891E-1003A2B5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912-BA48-4819-A1AB-23833661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21A-A0E2-4048-A41E-6F6836CD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A13-11A8-4157-A965-D8C5E9B3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892-6BCE-4905-B60B-27565D88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673-9BB1-4987-90EC-814A226B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B44-7519-4CEA-9FEA-89076EB9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FD6-2265-4F1E-89B6-1AC336C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69D-9943-44B0-9777-ED853732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7C4-0713-4A08-948A-63321E7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BBC9-93BC-4B00-91ED-01B0A5C34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143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s Comid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Colleen Rear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176640" cy="23810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Tahoma"/>
              </a:rPr>
              <a:t>Para el desayuno me gusta comer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857680" cy="1524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Tahoma"/>
              </a:rPr>
              <a:t>bollos de c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62720" y="1219320"/>
            <a:ext cx="2738160" cy="20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09680" y="33519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Arial"/>
              </a:rPr>
              <a:t>panqu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6800" y="55018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Tahoma"/>
              </a:rPr>
              <a:t>encantos de cere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Tahoma"/>
              </a:rPr>
              <a:t>suerte con lech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505320" y="4114800"/>
            <a:ext cx="2895480" cy="216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ahoma"/>
              </a:rPr>
              <a:t>Un café con lech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809880" y="1219320"/>
            <a:ext cx="1175040" cy="213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12760" y="324576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Tahoma"/>
              </a:rPr>
              <a:t>de jugo de naranja Trop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Para </a:t>
            </a:r>
            <a:r>
              <a:rPr b="0" lang="es-ES" sz="4000" spc="-1" strike="noStrike">
                <a:solidFill>
                  <a:srgbClr val="99cc00"/>
                </a:solidFill>
                <a:latin typeface="Arial"/>
              </a:rPr>
              <a:t>un merienda</a:t>
            </a: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62400" y="4267080"/>
            <a:ext cx="3981600" cy="238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172200" y="1371600"/>
            <a:ext cx="2343240" cy="1952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477120" y="3809880"/>
            <a:ext cx="1995480" cy="457200"/>
            <a:chOff x="6477120" y="3809880"/>
            <a:chExt cx="1995480" cy="457200"/>
          </a:xfrm>
        </p:grpSpPr>
        <p:sp>
          <p:nvSpPr>
            <p:cNvPr id="60" name=""/>
            <p:cNvSpPr txBox="1"/>
            <p:nvPr/>
          </p:nvSpPr>
          <p:spPr>
            <a:xfrm>
              <a:off x="6477120" y="3809880"/>
              <a:ext cx="19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cc00"/>
                  </a:solidFill>
                  <a:latin typeface="Arial"/>
                </a:rPr>
                <a:t>zanaho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838080" y="4253040"/>
            <a:ext cx="3429000" cy="2604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2894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una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galleta</a:t>
            </a: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 con nu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2254320"/>
            <a:ext cx="130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las 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160" y="380880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un montón de do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038480" y="266688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9880" y="220860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una caja de ju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un almuerzo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e gusta c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89548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69120" y="53280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dedos de pollo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pas fritas fran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6858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356880" y="685440"/>
            <a:ext cx="19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tequill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í y la pel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2895480" cy="2533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9520" y="63237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a ensalada con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352680" y="1600200"/>
            <a:ext cx="2562480" cy="2562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445560" y="159948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vitamina d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943600" y="4267080"/>
            <a:ext cx="3000240" cy="2248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28080" y="649044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orciones de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a 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cena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 gusta co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3543480" cy="247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360" y="32756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so a la par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5640" y="327600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a bolsa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086600" y="76212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1828800"/>
            <a:ext cx="2343240" cy="1952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65440" y="109764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yi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2162160" cy="211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25680" y="487548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stel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447920" y="4267080"/>
            <a:ext cx="2943000" cy="2314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43200" y="502812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ques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ahoma"/>
              </a:rPr>
              <a:t>Para </a:t>
            </a:r>
            <a:r>
              <a:rPr b="0" lang="es-ES" sz="4000" spc="-1" strike="noStrike">
                <a:solidFill>
                  <a:srgbClr val="ff00ff"/>
                </a:solidFill>
                <a:latin typeface="Tahoma"/>
              </a:rPr>
              <a:t>un </a:t>
            </a:r>
            <a:r>
              <a:rPr b="0" lang="es-ES" sz="4000" spc="-1" strike="noStrike">
                <a:solidFill>
                  <a:srgbClr val="ff00ff"/>
                </a:solidFill>
                <a:latin typeface="Arial"/>
              </a:rPr>
              <a:t>desiert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3429000" cy="249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1560" y="380880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ff"/>
                </a:solidFill>
                <a:latin typeface="Tahoma"/>
              </a:rPr>
              <a:t>una magda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77120" y="1295280"/>
            <a:ext cx="2381040" cy="2857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64360" y="4189680"/>
            <a:ext cx="17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ff"/>
                </a:solidFill>
                <a:latin typeface="Arial"/>
              </a:rPr>
              <a:t>un mont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ff"/>
                </a:solidFill>
                <a:latin typeface="Arial"/>
              </a:rPr>
              <a:t>de he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4920" y="4419720"/>
            <a:ext cx="3352680" cy="224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1520" y="646020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brownie de chocolate do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267080" y="1523880"/>
            <a:ext cx="2124360" cy="2152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96880" y="358056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chocolate ca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334120" y="41911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84960" y="5180400"/>
            <a:ext cx="169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nutella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gall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de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33:08Z</dcterms:created>
  <dc:creator>reardoncol</dc:creator>
  <dc:description/>
  <dc:language>en-US</dc:language>
  <cp:lastModifiedBy>reardoncol</cp:lastModifiedBy>
  <dcterms:modified xsi:type="dcterms:W3CDTF">2012-04-05T13:59:57Z</dcterms:modified>
  <cp:revision>6</cp:revision>
  <dc:subject/>
  <dc:title>Las Comidas </dc:title>
</cp:coreProperties>
</file>